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26A-4400-45B0-9B8A-41591884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5EA-815A-4A76-B462-30BC55FA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BCF-31A8-42D7-A42D-618D2254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154-8EA8-413A-A59C-81E4DC1A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78AC-B7D0-4638-8E78-4D324A02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FAE-C9FF-4215-B781-547E2D28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466E-1E11-4E29-9BB2-B78F79F2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71F-4664-4984-A516-59E1E60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498-1034-4F13-8F50-959836E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C6B9-9292-498A-B3D5-5DBBAD66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CAB4-C597-4CBD-9009-726703B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71F-7788-4124-86FA-8EB96924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3043-35E6-4764-8722-302BAD9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6777-8319-4596-835A-5FB4A540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91A6-D314-448C-8A20-292196EA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8DF-AC0B-4C90-9349-F74E4E05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2F7B-52BE-45DC-BF93-F4AD0F0C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00E-41BF-4315-BBC5-B103B79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EC4-3FFE-4E98-B169-5A5A4BAE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F21-B447-4233-98A7-A34800F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476-E8FF-4025-915A-372B662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4B2-2FB1-4630-A4A0-50EE6B2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B1D-CC3D-4563-8050-46C56DF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C1D-75AD-421D-8935-62CB95D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oybean%20fi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2D70-3D98-4517-9FB4-A75615475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CC65-A06D-41E6-97BC-920862CFB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ing Lower on the Food Ch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brown_swiss"/>
          <p:cNvPicPr/>
          <p:nvPr/>
        </p:nvPicPr>
        <p:blipFill>
          <a:blip r:embed="rId1"/>
          <a:stretch/>
        </p:blipFill>
        <p:spPr>
          <a:xfrm>
            <a:off x="1371600" y="3505320"/>
            <a:ext cx="6248520" cy="2835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6858000" y="3200400"/>
            <a:ext cx="2286000" cy="1905120"/>
          </a:xfrm>
          <a:prstGeom prst="wedgeEllipseCallout">
            <a:avLst>
              <a:gd name="adj1" fmla="val -70208"/>
              <a:gd name="adj2" fmla="val 6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086600" y="3581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hh, girls!!    I want to hear about th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Petrole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ns consume nearly as much fossil fuels at the supermarket as at the gas pum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ypical American burns about 530 gallons of gas each year driv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ating a meat based diet gobbles up an additional 400  gallons of 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7467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acre of corn requires 140 gallons of oil to produ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ting corn directly maximizes the energy invest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the corn goes to livestock, only about a fifth of the protein is returned as food, four-fifths is l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tional tid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out 80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antibiotics produced in the US are used for food anim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originated veggies may have been sprayed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A. water is full of DDT, washed off from foreign fruits and vegg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T is stored in fat – linked to breast cancer (90% breast cancer patients have DDT in thei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of Concerned Scientists: List of Top Things You Can Do to Help the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ive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 less red mea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erve on heating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ing costs in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w products are the wor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ly  87% of our agricultural land (50% for cows alone!) is engaged in animal production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grass-cows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6781680" y="1143000"/>
            <a:ext cx="1828800" cy="1600200"/>
          </a:xfrm>
          <a:prstGeom prst="wedgeEllipseCallout">
            <a:avLst>
              <a:gd name="adj1" fmla="val -43750"/>
              <a:gd name="adj2" fmla="val 47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BEG YOUR PARD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.S. Crop % that goes to feed c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-  90% of our soybeans, oats, wheat and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ow-eating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43797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8"/>
          <p:cNvSpPr/>
          <p:nvPr/>
        </p:nvSpPr>
        <p:spPr>
          <a:xfrm>
            <a:off x="609480" y="4572000"/>
            <a:ext cx="5791320" cy="1143000"/>
          </a:xfrm>
          <a:prstGeom prst="wedgeEllipseCallout">
            <a:avLst>
              <a:gd name="adj1" fmla="val 47726"/>
              <a:gd name="adj2" fmla="val 47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!  You have a problem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w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16 lbs of wheat to make 1 lb of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 gallons of water per lb of co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lb of soybeans only takes about 260 gallons of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ical North American Diet requires twice as much water to produce as less meat-intensive diets common in Asia and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ing  lower on food chain 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me water could feed double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nimal products use ½ the water 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iry cow drinks about 29 gallons of water a day, and needs 40 additional gallons for sanitation, producing only 8 gallons of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lution (Deep Doo-Doo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ricultural runoff = major pollution source for U.S. polluted rivers and str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g. = 130 times more than human waste and equivalent to 5 tons p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EATED BY A SEWAGE TREATMENT PL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ure from a 200-head dairy operation produces as much nitrogen as sewage from a town of 10,000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iry cow produces 120 lbs of waste a day, 12 times as much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otal of 22 tons per  cow per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a plant based diet personally saves an acre of tre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 million acres of U.S. forests have been cleared for livestoc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r foreign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Central and South America, grazing and feed grain production are the leading economic forces behind rainforest destru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quarter lb hamburger costs Mother Nature 55 square feet of forest l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.S. is the world’s top beef im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st food restaurant can claim are not required to declare the 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rigin of their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0:32Z</dcterms:created>
  <dc:creator>tosborne</dc:creator>
  <dc:description/>
  <dc:language>en-US</dc:language>
  <cp:lastModifiedBy>infosys</cp:lastModifiedBy>
  <dcterms:modified xsi:type="dcterms:W3CDTF">2015-10-22T23:21:26Z</dcterms:modified>
  <cp:revision>18</cp:revision>
  <dc:subject/>
  <dc:title>Eating Lower on the Food Chain</dc:title>
</cp:coreProperties>
</file>